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FA38-6E6A-402F-86DC-F5E52C3F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21C0-2000-45B0-A2CD-98FDC99D2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5BC-D5E0-4341-9A6E-4C637D3E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006-F749-4C83-9E18-70A09FD1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428-5EB5-4507-862A-D1E93DC3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922-758A-4DB6-B01E-2F513C06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60C-7B1A-4327-A005-5B4108B2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683-349F-4259-9071-6FE88F97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884-234A-4E37-9E67-125B0460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ACE-E04E-42AA-AC14-6DA99EA0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9D0-38B6-4143-BA2A-B39605E2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CF4-3690-4D64-9200-A00BC1BD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A49-6DCA-4BBB-BE71-688F271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720-4B0A-4C98-8AF8-38B0A1A6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58BB-CA57-42EB-A2E8-C4640EA01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** County School Distr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14400" y="5410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ed from “Discovering An Organization’s Culture” by Dr. Wally Schmidt, Rollins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in 06: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are encouraged to be creativ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deas are en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employees are bright and capable of quality work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and change are en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  Divisions/departments provide exciting challenges and opportunities for growth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ompetition among employees and between departments is dis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Groups work well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 Employees help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 Supervisors cooperate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.  Competition among employees is handled fairly and constru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among employees and between departments is dis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9.2 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work well toge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help each o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cooperate with one ano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  Competition among employees is handled fairly and constructively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1.6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Chan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actors that have mad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account for the amazing chang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Areas to Ex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-- how the system is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-- who is involved and how effective are thei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-- the degree of commitment among leaders, employees, and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ity -- the organization’s emphasis on quality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-- how the system is organ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Lines of responsibility are clear and easy to under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Jobs and services are clearly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 The services and divisions/departments of the company are organized effe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 Task scheduling is well organ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 Procedures, services, and systems are well organ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d in 06: Negative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 of responsibility are clear and easy to understan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5% -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s and services are clearly defin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0% True / 50%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ices and divisions/departments of the company are organized effectively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3.7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scheduling is well organiz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  Procedures, services, and systems are well organiz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1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Making -- who is involved and how effective are their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Employees can influence decisions that aff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The administration makes effectiv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 Information is readily available to help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 Decisions are made in a timely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 Grievances and problems are well hand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Mak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d in 06: Low Neutr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can influence decisions that affect them.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1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ministration makes effective decisions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is readily available to help make decisions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1.8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are made in a timely fashion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  Grievances and problems are well handl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6.3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-- the degree of commitment among leaders, employees, and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upervisors, employees, and staff are interested in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Supervisors are excited about their jobs and encourage employee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 Employees are committed to excel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 Supervisors are committed to excel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 The administrators and supervisors encourage an environment in which employees want to succ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in 06: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, employees, and staff are interested in their work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7.5 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are excited about their jobs and encourage employee development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1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are committed to excellenc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7.2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are committed to excellenc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  The administrators and supervisors encourage an environment in which employees want to succe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-- the organization’s emphasis on quality and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Employees are encouraged to be cre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New ideas are en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 Most employees are bright and capable of qualit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 Innovation and change are en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.  Divisions/departments provide exciting challenges and opportunities for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9:21:04Z</dcterms:created>
  <dc:creator>Randall Dobbs User</dc:creator>
  <dc:description/>
  <dc:language>en-US</dc:language>
  <cp:lastModifiedBy>Randall Dobbs User</cp:lastModifiedBy>
  <dcterms:modified xsi:type="dcterms:W3CDTF">2009-09-13T15:22:37Z</dcterms:modified>
  <cp:revision>10</cp:revision>
  <dc:subject/>
  <dc:title>Clarke County School District</dc:title>
</cp:coreProperties>
</file>